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585-0FF9-4947-9637-BEA30107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14C-EFDC-4D8C-8DF1-A96E23B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FE2D9-B623-4241-819B-E81142A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4D1F2-5CD9-4236-8599-024DCAE1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1A566-DAA5-4AC4-83A5-DA7AA76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7EE9A-91C0-4B52-A8E7-E83A216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504FE-C922-4E92-BA17-91E6A37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5671B-CD2A-440F-8F2B-C268EDA2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688C3-262B-4BFA-A602-8FD580C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A6CF-C317-4D30-BA40-806E2B95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BB5F4-86B5-4500-AE3A-1924C00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F7AA0-1520-4715-AD1E-969B4772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E68-C799-4ACA-9B56-AF6786C8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96DF8-79F9-4881-A7D1-63F52ABB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91580-98C6-4ED9-94F3-FF49AED3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95EE4-18C8-4A83-88E1-0DC63C0C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B8184-648F-4758-AC8A-F6BD6B9E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F01DF-C4CF-4694-AE80-AB14A2BE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89A9B-26F7-41C0-B50A-889C2DE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40A4A-F491-443D-ACEB-64AF8F93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9087E-5BF9-4587-A355-AEA715E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282DC-4FD2-4F3E-AF8E-FAE7A192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E0146-892E-4EB1-ABE1-BE24DAB3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CAF-48B1-4960-98F0-F0A0FE01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664D6-A1F2-4D62-8E56-3984BE02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D2A8-0659-48C8-8D55-DE75AC8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F66E-9A9A-43DB-9D05-EEA1E340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BE83-6DB5-4D22-853E-EF77700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70B1-DA38-4F60-A71C-B382DCB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325-0970-4744-AE0E-F6CFC6F8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599-0BF9-4B30-9620-929486F9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5673-4A9A-4A70-BB32-33EFD95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78C-6E89-4EAD-A8FF-14A40B8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0E17-4E8B-4CE3-8BA6-60F8FC0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744-F76E-4DB6-9D50-AFCBE94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1804-0FF0-4640-AC73-DF0C29B7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1377-B607-4EE9-93A4-BB467032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48D-87D9-4D23-8F88-93772B09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358F-74DB-47C6-A1D1-6538DC32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2FA0-642B-489E-994F-621EB19C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1F1D-B6C2-4ECD-8016-1D05AC6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959D-C8F5-4F20-B3E8-49B3D9F4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0F05-EAD9-4221-ACB1-D7EBA492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80A-F514-4F43-ABBD-0D412ABF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DD2F-26E7-4E06-91B3-5DAF043F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07CA-0887-4BD9-9CB4-713F7F4F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D43B-87A2-4916-8044-D905D4E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A88A-0E81-4B8E-AD87-6538E5B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E048-E1EE-4F28-A7AC-5E76CAB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B53C-84C7-4B8B-A11B-D4BC0B01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601F-034E-4C7C-AF8A-EC6EC694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120F-F686-4E57-91AA-ECED1F64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F667-847F-4DA7-83AE-C3C79F80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4440-1346-4262-9051-E167A992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7FA-0FE1-4C86-A4C6-E11026C2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93DBD-A68C-47E3-8158-4CDF0ED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C806-24F8-49BA-B475-5CA41C3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11E4-254B-4699-AE6D-DFC862DB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39DA-5A79-4A95-A888-70BBEB02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5C8D4-901A-4484-BCB4-D045317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3CF9-38FD-4CD0-B7D2-5C0784D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44B1-57A8-45E2-A27C-33C3C19F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8795-A9AC-40A2-97D2-A40D53A2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397E-0435-407E-9507-0CD8684B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A3EF-2236-402A-A0DF-9C109A02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1B3-5204-4926-9F19-0455D403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2F6F-D268-4475-9117-1C1231FA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9EF1-6C55-469B-A6B7-7157EAE3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86A50-15A7-4132-AEC6-DAAD4C1F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5B3A-B3BE-437F-B53B-630C532A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224B-DF5B-471B-8A5D-C729560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3FB2-305C-422D-BDE8-6A6A413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2FFDA-8E78-476B-B3D6-4A2DFF5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2C02-957B-45C2-A532-2141B83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6B37-96C6-4CA7-88DC-3C94351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1CE2-55C4-4671-A679-037EB3AA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CFB-78E5-4033-8E55-85EC9BE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7D8F-3BB7-45C0-991C-525687A9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63AE6-3504-448F-B519-A4DC96B0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85CB-C365-4F60-AA42-E95510C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EC5F-4837-4D71-AA3B-A6DC5B6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EE34-04F9-4C24-A4DE-63DA0115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9FC6-3277-4DC2-91D7-980C3CE5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23F6-4290-4724-9124-3647231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3041-77C9-45BB-8930-3A08517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BFFD-681F-4C3F-9860-036BCF0E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9AD4-B30F-4FE2-8BFA-44D39A48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A5F-A9ED-4262-9734-4E48CA1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DFD0-7B0D-416D-ADB0-D405F4E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BCF2-1401-4F9B-B4E0-A8749D74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AC2D-2CD2-431E-BE50-B6885B17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FA6EA-645F-40F4-BDF3-F2EB0178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FC04-0F37-422F-9741-8BD1BC5D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B9E9C-4B40-401A-8EEF-9212123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F1CE-E333-49BA-8D41-12989E9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05DF-05DC-404C-B6A5-4B98DC7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79A8-49C9-4920-A95E-CB52681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F6CE9-9B2E-4D48-8549-3548FAD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0BF-0B2F-4B15-9E84-B5322C7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7740-9598-42C8-9D1D-ABF100A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2C09-6B0C-461C-853A-83AB1B18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19C0-C24C-405E-8C1D-CD357C27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E955B-C141-4204-A753-11B9D049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B1DE-499E-46EB-A955-6E36A1F4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EAD40-F918-41B5-A7EA-339871C9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ECC6F-D18B-4B0B-A5BE-FAC3871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C416-C25B-463B-875E-6E545EC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F010-DFA7-4872-A269-6AC1492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EDD49-8B39-43CB-B391-EC5AFC4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C61-9521-426D-AD92-A5A776F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DA7B0-42A3-4283-B1EE-4BD32F5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F9ACD-F99E-4432-8CFE-4DE484F8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76F9D-1C59-4355-8867-8960E04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2383-8E2C-4BA2-B6D6-9DA1157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693E-FF9B-4FCE-8052-61C4584E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83220-406A-4D17-8FB2-E185B19B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D275F-4B8F-45E0-BCD6-56D5D127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DB479-7DDA-4E38-82AE-4C179401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1796C-CD28-4892-8A0D-775F95B8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31F8B-000F-4B47-98A1-1EFF9AE1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539E-BA95-4618-83B7-64EB28FC0DA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E637-8969-47D3-AAA8-FD0B3DD0E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C13-D0E3-45D4-9570-C9F0BC28C18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53D-E091-4BEC-9C44-A8FCDCFBD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C90-5A3C-434F-BB1A-83B369E68AA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4864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AE6-5C7B-4CAF-8480-6DB41B404D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BB7-E4AB-4DA7-A558-9800418CBE9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017-7342-4C5C-AB3D-154EEEEB0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25BF-EE3B-4682-838B-4279520D36C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B48-A082-40E4-BA0A-8E3F9AFB07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3574-6CCE-4232-8D6F-C9A8173353A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FD48-EBF1-4DD0-B682-F583D82439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4EC-BF98-474D-A6B0-A2D49E1E8D9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23E4-8C57-4247-8545-98AB4EEB9B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A18-C5AB-412B-8066-29D2484B417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C162-2687-429D-B2A7-CB785631F3A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0F6-10FA-45D8-BABB-7CC6AA4EC535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83F-FC31-4C39-859B-14015A9FDD9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925-4843-4B1E-9A7D-CC8E51B51B4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8836-B292-4712-9C95-8D7F4EB6E3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62000" y="438120"/>
            <a:ext cx="6980400" cy="1274760"/>
          </a:xfrm>
          <a:prstGeom prst="rect">
            <a:avLst/>
          </a:prstGeom>
          <a:ln w="0">
            <a:noFill/>
          </a:ln>
        </p:spPr>
      </p:pic>
      <p:pic>
        <p:nvPicPr>
          <p:cNvPr id="434" name="Footer Placeholder 4" descr=""/>
          <p:cNvPicPr/>
          <p:nvPr/>
        </p:nvPicPr>
        <p:blipFill>
          <a:blip r:embed="rId2"/>
          <a:stretch/>
        </p:blipFill>
        <p:spPr>
          <a:xfrm>
            <a:off x="2060640" y="4767120"/>
            <a:ext cx="6540480" cy="1846440"/>
          </a:xfrm>
          <a:prstGeom prst="rect">
            <a:avLst/>
          </a:prstGeom>
          <a:ln w="0">
            <a:noFill/>
          </a:ln>
        </p:spPr>
      </p:pic>
      <p:pic>
        <p:nvPicPr>
          <p:cNvPr id="435" name="Date Placeholder 5" descr=""/>
          <p:cNvPicPr/>
          <p:nvPr/>
        </p:nvPicPr>
        <p:blipFill>
          <a:blip r:embed="rId3"/>
          <a:stretch/>
        </p:blipFill>
        <p:spPr>
          <a:xfrm>
            <a:off x="2097000" y="5754600"/>
            <a:ext cx="5999400" cy="10908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6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AE9E-FFCD-48D5-9A0E-88B8CF3AED3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C:\Documents and Settings\hughest\Local Settings\Temporary Internet Files\Content.IE5\RZF77SXO\MPj04387960000[1].jpg"/>
          <p:cNvPicPr/>
          <p:nvPr/>
        </p:nvPicPr>
        <p:blipFill>
          <a:blip r:embed="rId4"/>
          <a:stretch/>
        </p:blipFill>
        <p:spPr>
          <a:xfrm>
            <a:off x="2736720" y="2048040"/>
            <a:ext cx="3926160" cy="3066840"/>
          </a:xfrm>
          <a:prstGeom prst="rect">
            <a:avLst/>
          </a:prstGeom>
          <a:ln w="0">
            <a:noFill/>
          </a:ln>
        </p:spPr>
      </p:pic>
      <p:pic>
        <p:nvPicPr>
          <p:cNvPr id="438" name="07a._Soundzabound_Volume_1_Disc_3_A_Little_Reggae.mp3" descr=""/>
          <p:cNvPicPr/>
          <p:nvPr/>
        </p:nvPicPr>
        <p:blipFill>
          <a:blip r:embed="rId5"/>
          <a:stretch/>
        </p:blipFill>
        <p:spPr>
          <a:xfrm>
            <a:off x="-53352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7693200" cy="1152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ish to simplify the process of using and changing copyrighted items, while working along side copy right laws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-237960" y="4565520"/>
            <a:ext cx="2457360" cy="2530440"/>
          </a:xfrm>
          <a:prstGeom prst="rect">
            <a:avLst/>
          </a:prstGeom>
          <a:ln w="0">
            <a:noFill/>
          </a:ln>
        </p:spPr>
      </p:pic>
      <p:pic>
        <p:nvPicPr>
          <p:cNvPr id="442" name="Footer Placeholder 5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Date Placeholder 6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44" name="Slide Number Placeholder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D89D-9B73-4BFA-94C0-82F515044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699400" cy="2073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609480" y="256032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opyright holder, businesses and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urrent copyright la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also make it easier for people to use copyrighted material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7839000" y="5095800"/>
            <a:ext cx="1542960" cy="1695600"/>
          </a:xfrm>
          <a:prstGeom prst="rect">
            <a:avLst/>
          </a:prstGeom>
          <a:ln w="0">
            <a:noFill/>
          </a:ln>
        </p:spPr>
      </p:pic>
      <p:pic>
        <p:nvPicPr>
          <p:cNvPr id="448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9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0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2EF-B72E-4A40-841E-BC8E6F5D2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69280" cy="1407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nge copyright laws by using federal government court systems or making legal docu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2809800" y="372420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454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9622-1E78-4CD9-8B13-CB2171A06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ant to continue the balance and practice of the internet and digital technologies continue to empower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2889360" y="3498840"/>
            <a:ext cx="2987640" cy="2762280"/>
          </a:xfrm>
          <a:prstGeom prst="rect">
            <a:avLst/>
          </a:prstGeom>
          <a:ln w="0">
            <a:noFill/>
          </a:ln>
        </p:spPr>
      </p:pic>
      <p:pic>
        <p:nvPicPr>
          <p:cNvPr id="460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3BE2-A8A4-4351-9F77-0C6A73A68C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For more information visi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eff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reativecommons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reecultur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utureofmusic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defectivebydesig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opyrightallianc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5" name="Footer Placeholder 3" descr=""/>
          <p:cNvPicPr/>
          <p:nvPr/>
        </p:nvPicPr>
        <p:blipFill>
          <a:blip r:embed="rId2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6" name="Date Placeholder 4" descr=""/>
          <p:cNvPicPr/>
          <p:nvPr/>
        </p:nvPicPr>
        <p:blipFill>
          <a:blip r:embed="rId3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5C47-23D7-4C6D-9F82-4C686A5BE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5:37:42Z</dcterms:created>
  <dc:creator>user</dc:creator>
  <dc:description/>
  <dc:language>en-US</dc:language>
  <cp:lastModifiedBy>user</cp:lastModifiedBy>
  <dcterms:modified xsi:type="dcterms:W3CDTF">2010-02-05T15:41:29Z</dcterms:modified>
  <cp:revision>29</cp:revision>
  <dc:subject/>
  <dc:title>Nonprofit</dc:title>
</cp:coreProperties>
</file>